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4.pct" ContentType="image/x-pict"/>
  <Override PartName="/ppt/media/image3.png" ContentType="image/png"/>
  <Override PartName="/ppt/media/image15.pct" ContentType="image/x-pict"/>
  <Override PartName="/ppt/media/image4.png" ContentType="image/png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media/image7.pct" ContentType="image/x-pict"/>
  <Override PartName="/ppt/media/image12.pct" ContentType="image/x-pict"/>
  <Override PartName="/ppt/media/image1.png" ContentType="image/png"/>
  <Override PartName="/ppt/media/image8.pct" ContentType="image/x-pict"/>
  <Override PartName="/ppt/media/image13.pct" ContentType="image/x-pict"/>
  <Override PartName="/ppt/media/image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C5A87F-9EE2-4C98-876C-61F20A13EFF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FA0D45-181E-4AC2-B4DB-A535BB7098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 basics - 1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066E-414A-4A5E-955B-F856195B7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0757-110A-4D65-ABF6-C3DE27034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EEC2-2C96-4377-A26A-7D8717BC1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4C70-EE64-463B-A9E8-93393B8DC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C5E3-C558-42A7-80C3-25FEDA9F7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494F-8ADC-403A-83E7-E23858BF0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5475-5905-4B40-A5A8-6E40E245D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1029-45B3-49CA-A20E-3EDDABFB3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262E-AA1A-4ACC-850C-E37BD2DEB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6B9E-C5E1-46AA-98C1-3F08E171F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FA9C-F020-4572-8274-9AFC35762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6AA9-3508-4640-B5D2-AD14D6E2B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881AB0-2EC2-48EB-906A-46794121CDD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2D14DD-0868-4A7D-96F4-BBE29760FA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5.xml"/><Relationship Id="rId3" Type="http://schemas.openxmlformats.org/officeDocument/2006/relationships/slide" Target=""/><Relationship Id="rId4" Type="http://schemas.openxmlformats.org/officeDocument/2006/relationships/slide" Target="slide6.xml"/><Relationship Id="rId5" Type="http://schemas.openxmlformats.org/officeDocument/2006/relationships/slide" Target=""/><Relationship Id="rId6" Type="http://schemas.openxmlformats.org/officeDocument/2006/relationships/slide" Target="slide8.xml"/><Relationship Id="rId7" Type="http://schemas.openxmlformats.org/officeDocument/2006/relationships/slide" Target=""/><Relationship Id="rId8" Type="http://schemas.openxmlformats.org/officeDocument/2006/relationships/slide" Target="slide10.xml"/><Relationship Id="rId9" Type="http://schemas.openxmlformats.org/officeDocument/2006/relationships/slide" Target=""/><Relationship Id="rId10" Type="http://schemas.openxmlformats.org/officeDocument/2006/relationships/slide" Target="slide12.xml"/><Relationship Id="rId11" Type="http://schemas.openxmlformats.org/officeDocument/2006/relationships/slide" Target=""/><Relationship Id="rId12" Type="http://schemas.openxmlformats.org/officeDocument/2006/relationships/slide" Target="slide14.xml"/><Relationship Id="rId13" Type="http://schemas.openxmlformats.org/officeDocument/2006/relationships/slide" Target=""/><Relationship Id="rId14" Type="http://schemas.openxmlformats.org/officeDocument/2006/relationships/slide" Target="slide16.xml"/><Relationship Id="rId15" Type="http://schemas.openxmlformats.org/officeDocument/2006/relationships/slide" Target=""/><Relationship Id="rId16" Type="http://schemas.openxmlformats.org/officeDocument/2006/relationships/slide" Target="slide18.xml"/><Relationship Id="rId17" Type="http://schemas.openxmlformats.org/officeDocument/2006/relationships/slide" Target=""/><Relationship Id="rId18" Type="http://schemas.openxmlformats.org/officeDocument/2006/relationships/slide" Target="slide20.xml"/><Relationship Id="rId19" Type="http://schemas.openxmlformats.org/officeDocument/2006/relationships/slide" Target=""/><Relationship Id="rId20" Type="http://schemas.openxmlformats.org/officeDocument/2006/relationships/slide" Target="slide22.xml"/><Relationship Id="rId21" Type="http://schemas.openxmlformats.org/officeDocument/2006/relationships/slide" Target=""/><Relationship Id="rId22" Type="http://schemas.openxmlformats.org/officeDocument/2006/relationships/slide" Target="slide24.xml"/><Relationship Id="rId23" Type="http://schemas.openxmlformats.org/officeDocument/2006/relationships/slide" Target=""/><Relationship Id="rId24" Type="http://schemas.openxmlformats.org/officeDocument/2006/relationships/slide" Target="slide26.xml"/><Relationship Id="rId25" Type="http://schemas.openxmlformats.org/officeDocument/2006/relationships/slide" Target=""/><Relationship Id="rId26" Type="http://schemas.openxmlformats.org/officeDocument/2006/relationships/slide" Target="slide28.xml"/><Relationship Id="rId27" Type="http://schemas.openxmlformats.org/officeDocument/2006/relationships/slide" Target=""/><Relationship Id="rId28" Type="http://schemas.openxmlformats.org/officeDocument/2006/relationships/slide" Target="slide30.xml"/><Relationship Id="rId29" Type="http://schemas.openxmlformats.org/officeDocument/2006/relationships/slide" Target=""/><Relationship Id="rId30" Type="http://schemas.openxmlformats.org/officeDocument/2006/relationships/slide" Target="slide32.xml"/><Relationship Id="rId31" Type="http://schemas.openxmlformats.org/officeDocument/2006/relationships/slide" Target=""/><Relationship Id="rId32" Type="http://schemas.openxmlformats.org/officeDocument/2006/relationships/slide" Target="slide34.xml"/><Relationship Id="rId33" Type="http://schemas.openxmlformats.org/officeDocument/2006/relationships/slide" Target=""/><Relationship Id="rId34" Type="http://schemas.openxmlformats.org/officeDocument/2006/relationships/slide" Target="slide36.xml"/><Relationship Id="rId35" Type="http://schemas.openxmlformats.org/officeDocument/2006/relationships/slide" Target=""/><Relationship Id="rId36" Type="http://schemas.openxmlformats.org/officeDocument/2006/relationships/slide" Target="slide38.xml"/><Relationship Id="rId37" Type="http://schemas.openxmlformats.org/officeDocument/2006/relationships/slide" Target="slide40.xml"/><Relationship Id="rId3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ct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ct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ct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ct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ct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ct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ct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ct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89">
            <a:hlinkClick r:id="rId1" action="ppaction://hlinksldjump"/>
          </p:cNvPr>
          <p:cNvSpPr/>
          <p:nvPr/>
        </p:nvSpPr>
        <p:spPr>
          <a:xfrm>
            <a:off x="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Garamond"/>
                <a:hlinkClick r:id="rId2" action="ppaction://hlinksldjump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AutoShape 90">
            <a:hlinkClick r:id="rId3" action="ppaction://hlinksldjump"/>
          </p:cNvPr>
          <p:cNvSpPr/>
          <p:nvPr/>
        </p:nvSpPr>
        <p:spPr>
          <a:xfrm>
            <a:off x="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Garamond"/>
                <a:hlinkClick r:id="rId4" action="ppaction://hlinksldjump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91">
            <a:hlinkClick r:id="rId5" action="ppaction://hlinksldjump"/>
          </p:cNvPr>
          <p:cNvSpPr/>
          <p:nvPr/>
        </p:nvSpPr>
        <p:spPr>
          <a:xfrm>
            <a:off x="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Garamond"/>
                <a:hlinkClick r:id="rId6" action="ppaction://hlinksldjump"/>
              </a:rPr>
              <a:t>4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AutoShape 92">
            <a:hlinkClick r:id="rId7" action="ppaction://hlinksldjump"/>
          </p:cNvPr>
          <p:cNvSpPr/>
          <p:nvPr/>
        </p:nvSpPr>
        <p:spPr>
          <a:xfrm>
            <a:off x="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Garamond"/>
                <a:hlinkClick r:id="rId8" action="ppaction://hlinksldjump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AutoShape 101">
            <a:hlinkClick r:id="rId9" action="ppaction://hlinksldjump"/>
          </p:cNvPr>
          <p:cNvSpPr/>
          <p:nvPr/>
        </p:nvSpPr>
        <p:spPr>
          <a:xfrm>
            <a:off x="18288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Garamond"/>
                <a:hlinkClick r:id="rId10" action="ppaction://hlinksldjump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AutoShape 102">
            <a:hlinkClick r:id="rId11" action="ppaction://hlinksldjump"/>
          </p:cNvPr>
          <p:cNvSpPr/>
          <p:nvPr/>
        </p:nvSpPr>
        <p:spPr>
          <a:xfrm>
            <a:off x="18288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Garamond"/>
                <a:hlinkClick r:id="rId12" action="ppaction://hlinksldjump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AutoShape 103">
            <a:hlinkClick r:id="rId13" action="ppaction://hlinksldjump"/>
          </p:cNvPr>
          <p:cNvSpPr/>
          <p:nvPr/>
        </p:nvSpPr>
        <p:spPr>
          <a:xfrm>
            <a:off x="18288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Garamond"/>
                <a:hlinkClick r:id="rId14" action="ppaction://hlinksldjump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AutoShape 104">
            <a:hlinkClick r:id="rId15" action="ppaction://hlinksldjump"/>
          </p:cNvPr>
          <p:cNvSpPr/>
          <p:nvPr/>
        </p:nvSpPr>
        <p:spPr>
          <a:xfrm>
            <a:off x="18288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Garamond"/>
                <a:hlinkClick r:id="rId16" action="ppaction://hlinksldjump"/>
              </a:rPr>
              <a:t>4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AutoShape 105">
            <a:hlinkClick r:id="rId17" action="ppaction://hlinksldjump"/>
          </p:cNvPr>
          <p:cNvSpPr/>
          <p:nvPr/>
        </p:nvSpPr>
        <p:spPr>
          <a:xfrm>
            <a:off x="18288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Garamond"/>
                <a:hlinkClick r:id="rId18" action="ppaction://hlinksldjump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AutoShape 106">
            <a:hlinkClick r:id="rId19" action="ppaction://hlinksldjump"/>
          </p:cNvPr>
          <p:cNvSpPr/>
          <p:nvPr/>
        </p:nvSpPr>
        <p:spPr>
          <a:xfrm>
            <a:off x="3657600" y="116064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Garamond"/>
                <a:hlinkClick r:id="rId20" action="ppaction://hlinksldjump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AutoShape 107">
            <a:hlinkClick r:id="rId21" action="ppaction://hlinksldjump"/>
          </p:cNvPr>
          <p:cNvSpPr/>
          <p:nvPr/>
        </p:nvSpPr>
        <p:spPr>
          <a:xfrm>
            <a:off x="3657600" y="230364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Garamond"/>
                <a:hlinkClick r:id="rId22" action="ppaction://hlinksldjump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AutoShape 108">
            <a:hlinkClick r:id="rId23" action="ppaction://hlinksldjump"/>
          </p:cNvPr>
          <p:cNvSpPr/>
          <p:nvPr/>
        </p:nvSpPr>
        <p:spPr>
          <a:xfrm>
            <a:off x="36576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Garamond"/>
                <a:hlinkClick r:id="rId24" action="ppaction://hlinksldjump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AutoShape 109">
            <a:hlinkClick r:id="rId25" action="ppaction://hlinksldjump"/>
          </p:cNvPr>
          <p:cNvSpPr/>
          <p:nvPr/>
        </p:nvSpPr>
        <p:spPr>
          <a:xfrm>
            <a:off x="36576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Garamond"/>
                <a:hlinkClick r:id="rId26" action="ppaction://hlinksldjump"/>
              </a:rPr>
              <a:t>4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AutoShape 110">
            <a:hlinkClick r:id="rId27" action="ppaction://hlinksldjump"/>
          </p:cNvPr>
          <p:cNvSpPr/>
          <p:nvPr/>
        </p:nvSpPr>
        <p:spPr>
          <a:xfrm>
            <a:off x="36576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Garamond"/>
                <a:hlinkClick r:id="rId28" action="ppaction://hlinksldjump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AutoShape 111">
            <a:hlinkClick r:id="rId29" action="ppaction://hlinksldjump"/>
          </p:cNvPr>
          <p:cNvSpPr/>
          <p:nvPr/>
        </p:nvSpPr>
        <p:spPr>
          <a:xfrm>
            <a:off x="54864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Garamond"/>
                <a:hlinkClick r:id="rId30" action="ppaction://hlinksldjump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AutoShape 112">
            <a:hlinkClick r:id="rId31" action="ppaction://hlinksldjump"/>
          </p:cNvPr>
          <p:cNvSpPr/>
          <p:nvPr/>
        </p:nvSpPr>
        <p:spPr>
          <a:xfrm>
            <a:off x="54864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Garamond"/>
                <a:hlinkClick r:id="rId32" action="ppaction://hlinksldjump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AutoShape 113">
            <a:hlinkClick r:id="rId33" action="ppaction://hlinksldjump"/>
          </p:cNvPr>
          <p:cNvSpPr/>
          <p:nvPr/>
        </p:nvSpPr>
        <p:spPr>
          <a:xfrm>
            <a:off x="54864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Garamond"/>
                <a:hlinkClick r:id="rId34" action="ppaction://hlinksldjump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AutoShape 114">
            <a:hlinkClick r:id="rId35" action="ppaction://hlinksldjump"/>
          </p:cNvPr>
          <p:cNvSpPr/>
          <p:nvPr/>
        </p:nvSpPr>
        <p:spPr>
          <a:xfrm>
            <a:off x="54864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Garamond"/>
                <a:hlinkClick r:id="rId36" action="ppaction://hlinksldjump"/>
              </a:rPr>
              <a:t>4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AutoShape 115"/>
          <p:cNvSpPr/>
          <p:nvPr/>
        </p:nvSpPr>
        <p:spPr>
          <a:xfrm>
            <a:off x="54864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Garamond"/>
                <a:hlinkClick r:id="rId37" action="ppaction://hlinksldjump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AutoShape 116"/>
          <p:cNvSpPr/>
          <p:nvPr/>
        </p:nvSpPr>
        <p:spPr>
          <a:xfrm>
            <a:off x="73152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AutoShape 117"/>
          <p:cNvSpPr/>
          <p:nvPr/>
        </p:nvSpPr>
        <p:spPr>
          <a:xfrm>
            <a:off x="73152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AutoShape 118"/>
          <p:cNvSpPr/>
          <p:nvPr/>
        </p:nvSpPr>
        <p:spPr>
          <a:xfrm>
            <a:off x="73152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AutoShape 119"/>
          <p:cNvSpPr/>
          <p:nvPr/>
        </p:nvSpPr>
        <p:spPr>
          <a:xfrm>
            <a:off x="73152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4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AutoShape 120"/>
          <p:cNvSpPr/>
          <p:nvPr/>
        </p:nvSpPr>
        <p:spPr>
          <a:xfrm>
            <a:off x="73152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AutoShape 40"/>
          <p:cNvSpPr/>
          <p:nvPr/>
        </p:nvSpPr>
        <p:spPr>
          <a:xfrm>
            <a:off x="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Rectangle 58"/>
          <p:cNvSpPr/>
          <p:nvPr/>
        </p:nvSpPr>
        <p:spPr>
          <a:xfrm>
            <a:off x="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s it 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unc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Rectangle 97"/>
          <p:cNvSpPr/>
          <p:nvPr/>
        </p:nvSpPr>
        <p:spPr>
          <a:xfrm>
            <a:off x="18288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mplify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lynomia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Rectangle 98"/>
          <p:cNvSpPr/>
          <p:nvPr/>
        </p:nvSpPr>
        <p:spPr>
          <a:xfrm>
            <a:off x="36576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dding an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ubtrac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unc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99"/>
          <p:cNvSpPr/>
          <p:nvPr/>
        </p:nvSpPr>
        <p:spPr>
          <a:xfrm>
            <a:off x="54864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unctio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Basic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Rectangle 100"/>
          <p:cNvSpPr/>
          <p:nvPr/>
        </p:nvSpPr>
        <p:spPr>
          <a:xfrm>
            <a:off x="73152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valuating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un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1219320" y="3276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1447920" y="1219320"/>
            <a:ext cx="62452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AutoShape 6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1071720" y="2122560"/>
            <a:ext cx="68529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Ye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(It passes the vertical line test)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0" y="1143000"/>
            <a:ext cx="9144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e6e6e6"/>
                </a:solidFill>
                <a:latin typeface="Calibri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2631960" y="2701800"/>
                <a:ext cx="366264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6" name="TextBox 5"/>
          <p:cNvSpPr/>
          <p:nvPr/>
        </p:nvSpPr>
        <p:spPr>
          <a:xfrm>
            <a:off x="1154160" y="1530360"/>
            <a:ext cx="7566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Is it a function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AutoShape 6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6" descr="30graphicaa.gif"/>
          <p:cNvPicPr/>
          <p:nvPr/>
        </p:nvPicPr>
        <p:blipFill>
          <a:blip r:embed="rId1"/>
          <a:stretch/>
        </p:blipFill>
        <p:spPr>
          <a:xfrm>
            <a:off x="789120" y="878040"/>
            <a:ext cx="4584600" cy="4584600"/>
          </a:xfrm>
          <a:prstGeom prst="rect">
            <a:avLst/>
          </a:prstGeom>
          <a:ln w="0">
            <a:noFill/>
          </a:ln>
        </p:spPr>
      </p:pic>
      <p:sp>
        <p:nvSpPr>
          <p:cNvPr id="132" name="TextBox 7"/>
          <p:cNvSpPr/>
          <p:nvPr/>
        </p:nvSpPr>
        <p:spPr>
          <a:xfrm>
            <a:off x="5875200" y="2108160"/>
            <a:ext cx="247356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Ye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(Passes v-line test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4616280" y="289548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533520" y="1600200"/>
            <a:ext cx="8305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implif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066680" y="2971800"/>
          <a:ext cx="7086600" cy="116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971800"/>
                    <a:ext cx="7086600" cy="116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762120" y="533520"/>
            <a:ext cx="8001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AutoShape 6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2990880" y="2743200"/>
          <a:ext cx="2800440" cy="106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90880" y="2743200"/>
                    <a:ext cx="2800440" cy="106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762120" y="1295280"/>
            <a:ext cx="7696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Simplify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1936800" y="3048120"/>
          <a:ext cx="5226120" cy="90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36800" y="3048120"/>
                    <a:ext cx="5226120" cy="90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AutoShape 6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3295800" y="2971800"/>
          <a:ext cx="2419200" cy="85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95800" y="2971800"/>
                    <a:ext cx="2419200" cy="85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Text Box 4"/>
          <p:cNvSpPr/>
          <p:nvPr/>
        </p:nvSpPr>
        <p:spPr>
          <a:xfrm>
            <a:off x="1600200" y="1752480"/>
            <a:ext cx="609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Simplif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76320" y="2971800"/>
          <a:ext cx="8991360" cy="109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2971800"/>
                    <a:ext cx="8991360" cy="109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AutoShape 6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209680" y="2743200"/>
          <a:ext cx="4648320" cy="108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2743200"/>
                    <a:ext cx="4648320" cy="108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0" y="20574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implif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1179360" y="3170160"/>
                <a:ext cx="673740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4"/>
          <p:cNvSpPr/>
          <p:nvPr/>
        </p:nvSpPr>
        <p:spPr>
          <a:xfrm>
            <a:off x="0" y="106668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600" spc="-1" strike="noStrike">
                <a:solidFill>
                  <a:srgbClr val="e6e6e6"/>
                </a:solidFill>
                <a:latin typeface="Jokerman"/>
              </a:rPr>
              <a:t>THIS….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600" spc="-1" strike="noStrike">
                <a:solidFill>
                  <a:srgbClr val="e6e6e6"/>
                </a:solidFill>
                <a:latin typeface="Jokerman"/>
              </a:rPr>
              <a:t>IS…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600" spc="-1" strike="noStrike">
                <a:solidFill>
                  <a:srgbClr val="e6e6e6"/>
                </a:solidFill>
                <a:latin typeface="Jokerman"/>
              </a:rPr>
              <a:t>JEOPARDY!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MacOS" descr=""/>
          <p:cNvPicPr/>
          <p:nvPr/>
        </p:nvPicPr>
        <p:blipFill>
          <a:blip r:embed="rId1"/>
          <a:stretch/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55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7" nodeType="afterEffect" fill="hold" presetClass="entr" presetID="55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6000"/>
                            </p:stCondLst>
                            <p:childTnLst>
                              <p:par>
                                <p:cTn id="23" nodeType="afterEffect" fill="hold" presetClass="entr" presetID="45" repeatCount="2000">
                                  <p:stCondLst>
                                    <p:cond delay="0"/>
                                  </p:stCondLst>
                                  <p:iterate type="lt">
                                    <p:tmAbs val="66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560"/>
                            </p:stCondLst>
                            <p:childTnLst>
                              <p:par>
                                <p:cTn id="29" nodeType="afterEffect" fill="hold" presetClass="entr" presetID="45" repeatCount="2000">
                                  <p:stCondLst>
                                    <p:cond delay="0"/>
                                  </p:stCondLst>
                                  <p:iterate type="lt">
                                    <p:tmAbs val="66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2479"/>
                            </p:stCondLst>
                            <p:childTnLst>
                              <p:par>
                                <p:cTn id="35" nodeType="afterEffect" fill="hold" presetClass="entr" presetID="45" repeatCount="2000">
                                  <p:stCondLst>
                                    <p:cond delay="0"/>
                                  </p:stCondLst>
                                  <p:iterate type="lt">
                                    <p:tmAbs val="66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39120"/>
                            </p:stCondLst>
                            <p:childTnLst>
                              <p:par>
                                <p:cTn id="41" nodeType="afterEffect" fill="hold" presetClass="emph" presetID="8" repeatCount="2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42" dur="2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3" nodeType="withEffect" fill="hold" presetClass="emph" presetID="8" repeatCount="2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44" dur="2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" nodeType="withEffect" fill="hold" presetClass="emph" presetID="8" repeatCount="2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46" dur="2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43120"/>
                            </p:stCondLst>
                            <p:childTnLst>
                              <p:par>
                                <p:cTn id="48" nodeType="afterEffect" fill="hold" presetClass="emph" presetID="4" presetSubtype="2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 to="1.20000004768372">
                                      <p:cBhvr additive="repl">
                                        <p:cTn id="49" dur="2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mph" presetID="4" presetSubtype="2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 to="1.20000004768372">
                                      <p:cBhvr additive="repl">
                                        <p:cTn id="51" dur="2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mph" presetID="4" presetSubtype="2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 to="1.20000004768372">
                                      <p:cBhvr additive="repl">
                                        <p:cTn id="53" dur="2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45120"/>
                            </p:stCondLst>
                            <p:childTnLst>
                              <p:par>
                                <p:cTn id="55" nodeType="afterEffect" fill="hold" presetClass="emph" presetID="32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56" dur="1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57" dur="1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58" dur="1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4" nodeType="withEffect" fill="hold" presetClass="emph" presetID="32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65" dur="1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66" dur="1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67" dur="1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3" nodeType="withEffect" fill="hold" presetClass="emph" presetID="32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74" dur="1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75" dur="1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76" dur="1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46120"/>
                            </p:stCondLst>
                            <p:childTnLst>
                              <p:par>
                                <p:cTn id="83" nodeType="after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84" dur="2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86" dur="2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88" dur="2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48120"/>
                            </p:stCondLst>
                            <p:childTnLst>
                              <p:par>
                                <p:cTn id="90" nodeType="afterEffect" fill="hold" presetClass="emph" presetID="32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91" dur="2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ff33"/>
                                      </p:to>
                                    </p:animClr>
                                    <p:animClr clrSpc="rgb">
                                      <p:cBhvr>
                                        <p:cTn id="92" dur="2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ff33"/>
                                      </p:to>
                                    </p:animClr>
                                    <p:set>
                                      <p:cBhvr>
                                        <p:cTn id="93" dur="2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9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5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6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7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9" nodeType="withEffect" fill="hold" presetClass="emph" presetID="32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00" dur="2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ff33"/>
                                      </p:to>
                                    </p:animClr>
                                    <p:animClr clrSpc="rgb">
                                      <p:cBhvr>
                                        <p:cTn id="101" dur="2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ff33"/>
                                      </p:to>
                                    </p:animClr>
                                    <p:set>
                                      <p:cBhvr>
                                        <p:cTn id="102" dur="2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4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5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6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8" nodeType="withEffect" fill="hold" presetClass="emph" presetID="32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09" dur="2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ff33"/>
                                      </p:to>
                                    </p:animClr>
                                    <p:animClr clrSpc="rgb">
                                      <p:cBhvr>
                                        <p:cTn id="110" dur="2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ff33"/>
                                      </p:to>
                                    </p:animClr>
                                    <p:set>
                                      <p:cBhvr>
                                        <p:cTn id="111" dur="2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1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3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4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5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120"/>
                            </p:stCondLst>
                            <p:childTnLst>
                              <p:par>
                                <p:cTn id="118" nodeType="afterEffect" fill="hold" presetClass="emph" presetID="36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Scale>
                                      <p:cBhvr>
                                        <p:cTn id="119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20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21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22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3" nodeType="withEffect" fill="hold" presetClass="emph" presetID="36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Scale>
                                      <p:cBhvr>
                                        <p:cTn id="124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25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26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27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8" nodeType="withEffect" fill="hold" presetClass="emph" presetID="36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Scale>
                                      <p:cBhvr>
                                        <p:cTn id="129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30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31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32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3720"/>
                            </p:stCondLst>
                            <p:childTnLst>
                              <p:par>
                                <p:cTn id="134" nodeType="afterEffect" fill="hold" presetClass="emph" presetID="14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3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13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3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38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3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40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41" nodeType="withEffect" fill="hold" presetClass="emph" presetID="14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4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14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4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4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4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47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48" nodeType="withEffect" fill="hold" presetClass="emph" presetID="14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4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15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5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5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5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54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5720"/>
                            </p:stCondLst>
                            <p:childTnLst>
                              <p:par>
                                <p:cTn id="156" nodeType="after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57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60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61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2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63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66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67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8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69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72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73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59320"/>
                            </p:stCondLst>
                            <p:childTnLst>
                              <p:par>
                                <p:cTn id="175" nodeType="afterEffect" fill="hold" presetClass="emph" presetID="34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76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79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80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1" nodeType="withEffect" fill="hold" presetClass="emph" presetID="34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82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85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86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4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8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91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92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62920"/>
                            </p:stCondLst>
                            <p:childTnLst>
                              <p:par>
                                <p:cTn id="194" nodeType="afterEffect" fill="hold" presetClass="emph" presetID="34" repeatCount="200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9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9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9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98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99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0" nodeType="withEffect" fill="hold" presetClass="emph" presetID="34" repeatCount="200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0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0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0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04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05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6" nodeType="withEffect" fill="hold" presetClass="emph" presetID="34" repeatCount="200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0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0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0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10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11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66520"/>
                            </p:stCondLst>
                            <p:childTnLst>
                              <p:par>
                                <p:cTn id="213" nodeType="afterEffect" fill="hold" presetClass="emph" presetID="34" repeatCount="200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1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1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1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1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1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9" nodeType="withEffect" fill="hold" presetClass="emph" presetID="34" repeatCount="200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2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21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22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23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24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5" nodeType="withEffect" fill="hold" presetClass="emph" presetID="34" repeatCount="200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2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2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2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2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3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8320"/>
                            </p:stCondLst>
                            <p:childTnLst>
                              <p:par>
                                <p:cTn id="232" nodeType="afterEffect" fill="hold" presetClass="emph" presetID="34" repeatCount="200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3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3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36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37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8" nodeType="withEffect" fill="hold" presetClass="emph" presetID="34" repeatCount="200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3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4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4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42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43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4" nodeType="withEffect" fill="hold" presetClass="emph" presetID="34" repeatCount="200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4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4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48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49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71920"/>
                            </p:stCondLst>
                            <p:childTnLst>
                              <p:par>
                                <p:cTn id="251" nodeType="afterEffect" fill="hold" presetClass="emph" presetID="34" repeatCount="200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52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55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56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7" nodeType="withEffect" fill="hold" presetClass="emph" presetID="34" repeatCount="200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5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61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62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3" nodeType="withEffect" fill="hold" presetClass="emph" presetID="34" repeatCount="200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64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67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68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79120"/>
                            </p:stCondLst>
                            <p:childTnLst>
                              <p:par>
                                <p:cTn id="270" nodeType="afterEffect" fill="hold" presetClass="emph" presetID="3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71" dur="1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  <p:animClr clrSpc="rgb">
                                      <p:cBhvr>
                                        <p:cTn id="272" dur="1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  <p:set>
                                      <p:cBhvr>
                                        <p:cTn id="273" dur="1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7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7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7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7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80" dur="1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  <p:animClr clrSpc="rgb">
                                      <p:cBhvr>
                                        <p:cTn id="281" dur="1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  <p:set>
                                      <p:cBhvr>
                                        <p:cTn id="282" dur="1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8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8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8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8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8" nodeType="withEffect" fill="hold" presetClass="emph" presetID="3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89" dur="1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  <p:animClr clrSpc="rgb">
                                      <p:cBhvr>
                                        <p:cTn id="290" dur="1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  <p:set>
                                      <p:cBhvr>
                                        <p:cTn id="291" dur="1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9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9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9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9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80120"/>
                            </p:stCondLst>
                            <p:childTnLst>
                              <p:par>
                                <p:cTn id="298" nodeType="afterEffect" fill="hold" presetClass="exit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amond(in)" transition="out">
                                      <p:cBhvr additive="repl">
                                        <p:cTn id="299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xit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amond(in)" transition="out">
                                      <p:cBhvr additive="repl">
                                        <p:cTn id="302" dur="20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xit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amond(in)" transition="out">
                                      <p:cBhvr additive="repl">
                                        <p:cTn id="305" dur="2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82120"/>
                            </p:stCondLst>
                            <p:childTnLst>
                              <p:par>
                                <p:cTn id="30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0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3" dur="20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6" dur="2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84120"/>
                            </p:stCondLst>
                            <p:childTnLst>
                              <p:par>
                                <p:cTn id="318" nodeType="afterEffect" fill="hold" presetClass="emph" presetID="8" repeatCount="2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319" dur="5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0" nodeType="withEffect" fill="hold" presetClass="emph" presetID="8" repeatCount="2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321" dur="5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2" nodeType="withEffect" fill="hold" presetClass="emph" presetID="8" repeatCount="2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323" dur="5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94120"/>
                            </p:stCondLst>
                            <p:childTnLst>
                              <p:par>
                                <p:cTn id="325" nodeType="afterEffect" fill="hold" presetClass="emph" presetID="8" repeatCount="2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326" dur="3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7" nodeType="withEffect" fill="hold" presetClass="emph" presetID="8" repeatCount="2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328" dur="3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9" nodeType="withEffect" fill="hold" presetClass="emph" presetID="8" repeatCount="2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330" dur="3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00120"/>
                            </p:stCondLst>
                            <p:childTnLst>
                              <p:par>
                                <p:cTn id="332" nodeType="afterEffect" fill="hold" presetClass="emph" presetID="8" repeatCount="2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333" dur="2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34" nodeType="withEffect" fill="hold" presetClass="emph" presetID="8" repeatCount="2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335" dur="2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36" nodeType="withEffect" fill="hold" presetClass="emph" presetID="8" repeatCount="2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337" dur="2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04120"/>
                            </p:stCondLst>
                            <p:childTnLst>
                              <p:par>
                                <p:cTn id="339" nodeType="afterEffect" fill="hold" presetClass="emph" presetID="8" repeatCount="2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340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41" nodeType="withEffect" fill="hold" presetClass="emph" presetID="8" repeatCount="2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342" dur="1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43" nodeType="withEffect" fill="hold" presetClass="emph" presetID="8" repeatCount="2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344" dur="1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06120"/>
                            </p:stCondLst>
                            <p:childTnLst>
                              <p:par>
                                <p:cTn id="346" nodeType="afterEffect" fill="hold" presetClass="emph" presetID="3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347" dur="1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348" dur="1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349" dur="1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5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5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5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5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5" nodeType="withEffect" fill="hold" presetClass="emph" presetID="3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356" dur="1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357" dur="1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358" dur="1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5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6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6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6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4" nodeType="withEffect" fill="hold" presetClass="emph" presetID="3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365" dur="1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366" dur="1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367" dur="1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6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6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7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7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107120"/>
                            </p:stCondLst>
                            <p:childTnLst>
                              <p:par>
                                <p:cTn id="374" nodeType="afterEffect" fill="hold" presetClass="emph" presetID="8" repeatCount="2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375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6" nodeType="withEffect" fill="hold" presetClass="emph" presetID="8" repeatCount="2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377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8" nodeType="withEffect" fill="hold" presetClass="emph" presetID="8" repeatCount="2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379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08120"/>
                            </p:stCondLst>
                            <p:childTnLst>
                              <p:par>
                                <p:cTn id="381" nodeType="afterEffect" fill="hold" presetClass="emph" presetID="8" repeatCount="2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382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3" nodeType="withEffect" fill="hold" presetClass="emph" presetID="8" repeatCount="2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384" dur="1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5" nodeType="withEffect" fill="hold" presetClass="emph" presetID="8" repeatCount="2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386" dur="1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110120"/>
                            </p:stCondLst>
                            <p:childTnLst>
                              <p:par>
                                <p:cTn id="388" nodeType="afterEffect" fill="hold" presetClass="emph" presetID="8" repeatCount="2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389" dur="2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90" nodeType="withEffect" fill="hold" presetClass="emph" presetID="8" repeatCount="2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391" dur="2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92" nodeType="withEffect" fill="hold" presetClass="emph" presetID="8" repeatCount="2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393" dur="2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114120"/>
                            </p:stCondLst>
                            <p:childTnLst>
                              <p:par>
                                <p:cTn id="395" nodeType="afterEffect" fill="hold" presetClass="path" presetID="4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C -0.004 -0.08933 0.046 -0.16667 0.113 -0.172 C 0.177 -0.17867 0.237 -0.11867 0.241 -0.032 C 0.246 0.048 0.204 0.12267 0.144 0.128 C 0.089 0.132 0.037 0.08267 0.033 0.008 C 0.029 -0.06 0.064 -0.124 0.115 -0.12933 C 0.162 -0.13333 0.206 -0.092 0.209 -0.02933 C 0.212 0.02667 0.184 0.08133 0.142 0.084 C 0.104 0.088 0.068 0.056 0.065 0.00533 C 0.063 -0.04 0.084 -0.084 0.117 -0.08667 C 0.146 -0.08933 0.175 -0.06533 0.177 -0.02667 C 0.179 0.00667 0.164 0.03867 0.14 0.04133 C 0.12 0.044 0.099 0.02933 0.098 0.00267 C 0.096 -0.01867 0.104 -0.04133 0.119 -0.044 C 0.131 -0.044 0.143 -0.03867 0.145 -0.024 C 0.146 -0.01467 0.144 -0.00533 0.138 -0.00133 C 0.135 0 0.133 0 0.13 -0.00133 E">
                                      <p:cBhvr>
                                        <p:cTn id="396" dur="2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7" nodeType="withEffect" fill="hold" presetClass="path" presetID="4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C -0.004 -0.08933 0.046 -0.16667 0.113 -0.172 C 0.177 -0.17867 0.237 -0.11867 0.241 -0.032 C 0.246 0.048 0.204 0.12267 0.144 0.128 C 0.089 0.132 0.037 0.08267 0.033 0.008 C 0.029 -0.06 0.064 -0.124 0.115 -0.12933 C 0.162 -0.13333 0.206 -0.092 0.209 -0.02933 C 0.212 0.02667 0.184 0.08133 0.142 0.084 C 0.104 0.088 0.068 0.056 0.065 0.00533 C 0.063 -0.04 0.084 -0.084 0.117 -0.08667 C 0.146 -0.08933 0.175 -0.06533 0.177 -0.02667 C 0.179 0.00667 0.164 0.03867 0.14 0.04133 C 0.12 0.044 0.099 0.02933 0.098 0.00267 C 0.096 -0.01867 0.104 -0.04133 0.119 -0.044 C 0.131 -0.044 0.143 -0.03867 0.145 -0.024 C 0.146 -0.01467 0.144 -0.00533 0.138 -0.00133 C 0.135 0 0.133 0 0.13 -0.00133 E">
                                      <p:cBhvr>
                                        <p:cTn id="398" dur="2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9" nodeType="withEffect" fill="hold" presetClass="path" presetID="4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C -0.004 -0.08933 0.046 -0.16667 0.113 -0.172 C 0.177 -0.17867 0.237 -0.11867 0.241 -0.032 C 0.246 0.048 0.204 0.12267 0.144 0.128 C 0.089 0.132 0.037 0.08267 0.033 0.008 C 0.029 -0.06 0.064 -0.124 0.115 -0.12933 C 0.162 -0.13333 0.206 -0.092 0.209 -0.02933 C 0.212 0.02667 0.184 0.08133 0.142 0.084 C 0.104 0.088 0.068 0.056 0.065 0.00533 C 0.063 -0.04 0.084 -0.084 0.117 -0.08667 C 0.146 -0.08933 0.175 -0.06533 0.177 -0.02667 C 0.179 0.00667 0.164 0.03867 0.14 0.04133 C 0.12 0.044 0.099 0.02933 0.098 0.00267 C 0.096 -0.01867 0.104 -0.04133 0.119 -0.044 C 0.131 -0.044 0.143 -0.03867 0.145 -0.024 C 0.146 -0.01467 0.144 -0.00533 0.138 -0.00133 C 0.135 0 0.133 0 0.13 -0.00133 E">
                                      <p:cBhvr>
                                        <p:cTn id="400" dur="2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116120"/>
                            </p:stCondLst>
                            <p:childTnLst>
                              <p:par>
                                <p:cTn id="402" nodeType="afterEffect" fill="hold" presetClass="path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C 0.004 -0.08933 -0.046 -0.16667 -0.113 -0.172 C -0.177 -0.17867 -0.237 -0.11867 -0.241 -0.032 C -0.246 0.048 -0.204 0.12267 -0.144 0.128 C -0.089 0.132 -0.037 0.08267 -0.033 0.008 C -0.029 -0.06 -0.064 -0.124 -0.115 -0.12933 C -0.162 -0.13333 -0.206 -0.092 -0.209 -0.02933 C -0.212 0.02667 -0.184 0.08133 -0.142 0.084 C -0.104 0.088 -0.068 0.056 -0.065 0.00533 C -0.063 -0.04 -0.084 -0.084 -0.117 -0.08667 C -0.146 -0.08933 -0.175 -0.06533 -0.177 -0.02667 C -0.179 0.00667 -0.164 0.03867 -0.14 0.04133 C -0.12 0.044 -0.099 0.02933 -0.098 0.00267 C -0.096 -0.01867 -0.104 -0.04133 -0.119 -0.044 C -0.131 -0.044 -0.143 -0.03867 -0.145 -0.024 C -0.146 -0.01467 -0.144 -0.00533 -0.138 -0.00133 C -0.135 0 -0.133 0 -0.13 -0.00133 E">
                                      <p:cBhvr>
                                        <p:cTn id="403" dur="2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4" nodeType="withEffect" fill="hold" presetClass="path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C 0.004 -0.08933 -0.046 -0.16667 -0.113 -0.172 C -0.177 -0.17867 -0.237 -0.11867 -0.241 -0.032 C -0.246 0.048 -0.204 0.12267 -0.144 0.128 C -0.089 0.132 -0.037 0.08267 -0.033 0.008 C -0.029 -0.06 -0.064 -0.124 -0.115 -0.12933 C -0.162 -0.13333 -0.206 -0.092 -0.209 -0.02933 C -0.212 0.02667 -0.184 0.08133 -0.142 0.084 C -0.104 0.088 -0.068 0.056 -0.065 0.00533 C -0.063 -0.04 -0.084 -0.084 -0.117 -0.08667 C -0.146 -0.08933 -0.175 -0.06533 -0.177 -0.02667 C -0.179 0.00667 -0.164 0.03867 -0.14 0.04133 C -0.12 0.044 -0.099 0.02933 -0.098 0.00267 C -0.096 -0.01867 -0.104 -0.04133 -0.119 -0.044 C -0.131 -0.044 -0.143 -0.03867 -0.145 -0.024 C -0.146 -0.01467 -0.144 -0.00533 -0.138 -0.00133 C -0.135 0 -0.133 0 -0.13 -0.00133 E">
                                      <p:cBhvr>
                                        <p:cTn id="405" dur="2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6" nodeType="withEffect" fill="hold" presetClass="path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C 0.004 -0.08933 -0.046 -0.16667 -0.113 -0.172 C -0.177 -0.17867 -0.237 -0.11867 -0.241 -0.032 C -0.246 0.048 -0.204 0.12267 -0.144 0.128 C -0.089 0.132 -0.037 0.08267 -0.033 0.008 C -0.029 -0.06 -0.064 -0.124 -0.115 -0.12933 C -0.162 -0.13333 -0.206 -0.092 -0.209 -0.02933 C -0.212 0.02667 -0.184 0.08133 -0.142 0.084 C -0.104 0.088 -0.068 0.056 -0.065 0.00533 C -0.063 -0.04 -0.084 -0.084 -0.117 -0.08667 C -0.146 -0.08933 -0.175 -0.06533 -0.177 -0.02667 C -0.179 0.00667 -0.164 0.03867 -0.14 0.04133 C -0.12 0.044 -0.099 0.02933 -0.098 0.00267 C -0.096 -0.01867 -0.104 -0.04133 -0.119 -0.044 C -0.131 -0.044 -0.143 -0.03867 -0.145 -0.024 C -0.146 -0.01467 -0.144 -0.00533 -0.138 -0.00133 C -0.135 0 -0.133 0 -0.13 -0.00133 E">
                                      <p:cBhvr>
                                        <p:cTn id="407" dur="2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118120"/>
                            </p:stCondLst>
                            <p:childTnLst>
                              <p:par>
                                <p:cTn id="40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2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2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20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2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2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2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2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2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121720"/>
                            </p:stCondLst>
                            <p:childTnLst>
                              <p:par>
                                <p:cTn id="425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26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29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30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31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32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35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36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37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3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41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42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125320"/>
                            </p:stCondLst>
                            <p:childTnLst>
                              <p:par>
                                <p:cTn id="44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2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2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2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2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2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2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20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2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2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2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1" dur="2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128120"/>
                            </p:stCondLst>
                            <p:childTnLst>
                              <p:par>
                                <p:cTn id="463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64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7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68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69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70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73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74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75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76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79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80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131720"/>
                            </p:stCondLst>
                            <p:childTnLst>
                              <p:par>
                                <p:cTn id="482" nodeType="after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43200000">
                                      <p:cBhvr>
                                        <p:cTn id="483" dur="3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84" nodeType="with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43200000">
                                      <p:cBhvr>
                                        <p:cTn id="485" dur="3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86" nodeType="with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43200000">
                                      <p:cBhvr>
                                        <p:cTn id="487" dur="3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134720"/>
                            </p:stCondLst>
                            <p:childTnLst>
                              <p:par>
                                <p:cTn id="489" nodeType="after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-21600000">
                                      <p:cBhvr>
                                        <p:cTn id="490" dur="5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-21600000">
                                      <p:cBhvr>
                                        <p:cTn id="492" dur="5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-21600000">
                                      <p:cBhvr>
                                        <p:cTn id="494" dur="5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139720"/>
                            </p:stCondLst>
                            <p:childTnLst>
                              <p:par>
                                <p:cTn id="496" nodeType="after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43200000">
                                      <p:cBhvr>
                                        <p:cTn id="497" dur="3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98" nodeType="with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43200000">
                                      <p:cBhvr>
                                        <p:cTn id="499" dur="3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00" nodeType="with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43200000">
                                      <p:cBhvr>
                                        <p:cTn id="501" dur="3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142720"/>
                            </p:stCondLst>
                            <p:childTnLst>
                              <p:par>
                                <p:cTn id="503" nodeType="afterEffect" fill="hold" presetClass="path" presetID="4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C -0.004 -0.01067 -0.018 -0.02133 -0.023 -0.02133 C -0.054 -0.02133 -0.086 0.14534 -0.086 0.312 C -0.086 0.228 -0.102 0.14533 -0.117 0.14533 C -0.133 0.14533 -0.148 0.22933 -0.148 0.312 C -0.148 0.27067 -0.156 0.228 -0.164 0.228 C -0.172 0.228 -0.18 0.26933 -0.18 0.312 C -0.18 0.29067 -0.184 0.27067 -0.188 0.27067 C -0.192 0.27067 -0.196 0.292 -0.196 0.312 C -0.196 0.30133 -0.198 0.29067 -0.2 0.29067 C -0.201 0.29067 -0.204 0.30134 -0.204 0.312 C -0.204 0.30667 -0.205 0.30133 -0.206 0.30133 C -0.206 0.3 -0.208 0.30666 -0.208 0.312 C -0.208 0.30933 -0.208 0.30667 -0.209 0.30667 C -0.209 0.308 -0.21 0.30934 -0.21 0.312 C -0.21 0.31067 -0.21 0.30933 -0.21 0.308 C -0.211 0.308 -0.211 0.30933 -0.211 0.31067 C -0.212 0.31067 -0.212 0.30934 -0.212 0.308 C -0.213 0.308 -0.213 0.30933 -0.213 0.31067 E">
                                      <p:cBhvr>
                                        <p:cTn id="504" dur="3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5" nodeType="withEffect" fill="hold" presetClass="path" presetID="4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C -0.004 -0.01067 -0.018 -0.02133 -0.023 -0.02133 C -0.054 -0.02133 -0.086 0.14534 -0.086 0.312 C -0.086 0.228 -0.102 0.14533 -0.117 0.14533 C -0.133 0.14533 -0.148 0.22933 -0.148 0.312 C -0.148 0.27067 -0.156 0.228 -0.164 0.228 C -0.172 0.228 -0.18 0.26933 -0.18 0.312 C -0.18 0.29067 -0.184 0.27067 -0.188 0.27067 C -0.192 0.27067 -0.196 0.292 -0.196 0.312 C -0.196 0.30133 -0.198 0.29067 -0.2 0.29067 C -0.201 0.29067 -0.204 0.30134 -0.204 0.312 C -0.204 0.30667 -0.205 0.30133 -0.206 0.30133 C -0.206 0.3 -0.208 0.30666 -0.208 0.312 C -0.208 0.30933 -0.208 0.30667 -0.209 0.30667 C -0.209 0.308 -0.21 0.30934 -0.21 0.312 C -0.21 0.31067 -0.21 0.30933 -0.21 0.308 C -0.211 0.308 -0.211 0.30933 -0.211 0.31067 C -0.212 0.31067 -0.212 0.30934 -0.212 0.308 C -0.213 0.308 -0.213 0.30933 -0.213 0.31067 E">
                                      <p:cBhvr>
                                        <p:cTn id="506" dur="3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7" nodeType="withEffect" fill="hold" presetClass="path" presetID="4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C -0.004 -0.01067 -0.018 -0.02133 -0.023 -0.02133 C -0.054 -0.02133 -0.086 0.14534 -0.086 0.312 C -0.086 0.228 -0.102 0.14533 -0.117 0.14533 C -0.133 0.14533 -0.148 0.22933 -0.148 0.312 C -0.148 0.27067 -0.156 0.228 -0.164 0.228 C -0.172 0.228 -0.18 0.26933 -0.18 0.312 C -0.18 0.29067 -0.184 0.27067 -0.188 0.27067 C -0.192 0.27067 -0.196 0.292 -0.196 0.312 C -0.196 0.30133 -0.198 0.29067 -0.2 0.29067 C -0.201 0.29067 -0.204 0.30134 -0.204 0.312 C -0.204 0.30667 -0.205 0.30133 -0.206 0.30133 C -0.206 0.3 -0.208 0.30666 -0.208 0.312 C -0.208 0.30933 -0.208 0.30667 -0.209 0.30667 C -0.209 0.308 -0.21 0.30934 -0.21 0.312 C -0.21 0.31067 -0.21 0.30933 -0.21 0.308 C -0.211 0.308 -0.211 0.30933 -0.211 0.31067 C -0.212 0.31067 -0.212 0.30934 -0.212 0.308 C -0.213 0.308 -0.213 0.30933 -0.213 0.31067 E">
                                      <p:cBhvr>
                                        <p:cTn id="508" dur="3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145720"/>
                            </p:stCondLst>
                            <p:childTnLst>
                              <p:par>
                                <p:cTn id="510" nodeType="afterEffect" fill="hold" presetClass="path" presetID="5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C 0.004 -0.01067 0.018 -0.02133 0.023 -0.02133 C 0.054 -0.02133 0.086 0.14534 0.086 0.312 C 0.086 0.228 0.102 0.14533 0.117 0.14533 C 0.133 0.14533 0.148 0.22933 0.148 0.312 C 0.148 0.27067 0.156 0.228 0.164 0.228 C 0.172 0.228 0.18 0.26933 0.18 0.312 C 0.18 0.29067 0.184 0.27067 0.188 0.27067 C 0.192 0.27067 0.196 0.292 0.196 0.312 C 0.196 0.30133 0.198 0.29067 0.2 0.29067 C 0.201 0.29067 0.204 0.30134 0.204 0.312 C 0.204 0.30667 0.205 0.30133 0.206 0.30133 C 0.206 0.30266 0.208 0.30666 0.208 0.312 C 0.208 0.30933 0.208 0.30667 0.209 0.30667 C 0.209 0.308 0.21 0.30934 0.21 0.312 C 0.21 0.31067 0.21 0.30933 0.21 0.308 C 0.211 0.308 0.211 0.30933 0.211 0.31067 C 0.212 0.31067 0.212 0.30934 0.212 0.308 C 0.213 0.308 0.213 0.30933 0.213 0.31067 E">
                                      <p:cBhvr>
                                        <p:cTn id="511" dur="3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2" nodeType="withEffect" fill="hold" presetClass="path" presetID="5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C 0.004 -0.01067 0.018 -0.02133 0.023 -0.02133 C 0.054 -0.02133 0.086 0.14534 0.086 0.312 C 0.086 0.228 0.102 0.14533 0.117 0.14533 C 0.133 0.14533 0.148 0.22933 0.148 0.312 C 0.148 0.27067 0.156 0.228 0.164 0.228 C 0.172 0.228 0.18 0.26933 0.18 0.312 C 0.18 0.29067 0.184 0.27067 0.188 0.27067 C 0.192 0.27067 0.196 0.292 0.196 0.312 C 0.196 0.30133 0.198 0.29067 0.2 0.29067 C 0.201 0.29067 0.204 0.30134 0.204 0.312 C 0.204 0.30667 0.205 0.30133 0.206 0.30133 C 0.206 0.30266 0.208 0.30666 0.208 0.312 C 0.208 0.30933 0.208 0.30667 0.209 0.30667 C 0.209 0.308 0.21 0.30934 0.21 0.312 C 0.21 0.31067 0.21 0.30933 0.21 0.308 C 0.211 0.308 0.211 0.30933 0.211 0.31067 C 0.212 0.31067 0.212 0.30934 0.212 0.308 C 0.213 0.308 0.213 0.30933 0.213 0.31067 E">
                                      <p:cBhvr>
                                        <p:cTn id="513" dur="3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4" nodeType="withEffect" fill="hold" presetClass="path" presetID="5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C 0.004 -0.01067 0.018 -0.02133 0.023 -0.02133 C 0.054 -0.02133 0.086 0.14534 0.086 0.312 C 0.086 0.228 0.102 0.14533 0.117 0.14533 C 0.133 0.14533 0.148 0.22933 0.148 0.312 C 0.148 0.27067 0.156 0.228 0.164 0.228 C 0.172 0.228 0.18 0.26933 0.18 0.312 C 0.18 0.29067 0.184 0.27067 0.188 0.27067 C 0.192 0.27067 0.196 0.292 0.196 0.312 C 0.196 0.30133 0.198 0.29067 0.2 0.29067 C 0.201 0.29067 0.204 0.30134 0.204 0.312 C 0.204 0.30667 0.205 0.30133 0.206 0.30133 C 0.206 0.30266 0.208 0.30666 0.208 0.312 C 0.208 0.30933 0.208 0.30667 0.209 0.30667 C 0.209 0.308 0.21 0.30934 0.21 0.312 C 0.21 0.31067 0.21 0.30933 0.21 0.308 C 0.211 0.308 0.211 0.30933 0.211 0.31067 C 0.212 0.31067 0.212 0.30934 0.212 0.308 C 0.213 0.308 0.213 0.30933 0.213 0.31067 E">
                                      <p:cBhvr>
                                        <p:cTn id="515" dur="3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148720"/>
                            </p:stCondLst>
                            <p:childTnLst>
                              <p:par>
                                <p:cTn id="517" nodeType="afterEffect" fill="hold" presetClass="path" presetID="2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C 0.017 0 0.031 0.01867 0.031 0.04133 C 0.031 0.06533 0.017 0.084 0 0.084 C -0.017 0.084 -0.031 0.10267 -0.031 0.12533 C -0.031 0.148 -0.017 0.16667 0 0.16667 C 0.017 0.16667 0.031 0.18533 0.031 0.208 C 0.031 0.23067 0.017 0.24933 0 0.24933 C -0.017 0.24933 -0.031 0.268 -0.031 0.292 C -0.031 0.31467 -0.017 0.33333 0 0.33333 C 0.017 0.33333 0.031 0.31467 0.031 0.292 C 0.031 0.268 0.017 0.24933 0 0.24933 C -0.017 0.24933 -0.031 0.23067 -0.031 0.208 C -0.031 0.18533 -0.017 0.16667 0 0.16667 C 0.017 0.16667 0.031 0.148 0.031 0.12533 C 0.031 0.10267 0.017 0.084 0 0.084 C -0.017 0.084 -0.031 0.06533 -0.031 0.04133 C -0.031 0.01867 -0.017 0 0 0 Z">
                                      <p:cBhvr>
                                        <p:cTn id="518" dur="2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9" nodeType="withEffect" fill="hold" presetClass="path" presetID="2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C 0.017 0 0.031 0.01867 0.031 0.04133 C 0.031 0.06533 0.017 0.084 0 0.084 C -0.017 0.084 -0.031 0.10267 -0.031 0.12533 C -0.031 0.148 -0.017 0.16667 0 0.16667 C 0.017 0.16667 0.031 0.18533 0.031 0.208 C 0.031 0.23067 0.017 0.24933 0 0.24933 C -0.017 0.24933 -0.031 0.268 -0.031 0.292 C -0.031 0.31467 -0.017 0.33333 0 0.33333 C 0.017 0.33333 0.031 0.31467 0.031 0.292 C 0.031 0.268 0.017 0.24933 0 0.24933 C -0.017 0.24933 -0.031 0.23067 -0.031 0.208 C -0.031 0.18533 -0.017 0.16667 0 0.16667 C 0.017 0.16667 0.031 0.148 0.031 0.12533 C 0.031 0.10267 0.017 0.084 0 0.084 C -0.017 0.084 -0.031 0.06533 -0.031 0.04133 C -0.031 0.01867 -0.017 0 0 0 Z">
                                      <p:cBhvr>
                                        <p:cTn id="520" dur="2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1" nodeType="withEffect" fill="hold" presetClass="path" presetID="2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C 0.017 0 0.031 0.01867 0.031 0.04133 C 0.031 0.06533 0.017 0.084 0 0.084 C -0.017 0.084 -0.031 0.10267 -0.031 0.12533 C -0.031 0.148 -0.017 0.16667 0 0.16667 C 0.017 0.16667 0.031 0.18533 0.031 0.208 C 0.031 0.23067 0.017 0.24933 0 0.24933 C -0.017 0.24933 -0.031 0.268 -0.031 0.292 C -0.031 0.31467 -0.017 0.33333 0 0.33333 C 0.017 0.33333 0.031 0.31467 0.031 0.292 C 0.031 0.268 0.017 0.24933 0 0.24933 C -0.017 0.24933 -0.031 0.23067 -0.031 0.208 C -0.031 0.18533 -0.017 0.16667 0 0.16667 C 0.017 0.16667 0.031 0.148 0.031 0.12533 C 0.031 0.10267 0.017 0.084 0 0.084 C -0.017 0.084 -0.031 0.06533 -0.031 0.04133 C -0.031 0.01867 -0.017 0 0 0 Z">
                                      <p:cBhvr>
                                        <p:cTn id="522" dur="2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150720"/>
                            </p:stCondLst>
                            <p:childTnLst>
                              <p:par>
                                <p:cTn id="524" nodeType="afterEffect" fill="hold" presetClass="path" presetID="3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C 0.015 0.032 0.037 0.06533 0.055 0.07867 C 0.082 0.1 0.108 0.108 0.113 0.09733 C 0.117 0.08667 0.099 0.06 0.072 0.03867 C 0.054 0.02533 0.021 0.016 -0.008 0.01467 C -0.036 0.016 -0.07 0.02533 -0.088 0.03867 C -0.115 0.06 -0.133 0.08667 -0.128 0.09733 C -0.123 0.108 -0.097 0.1 -0.071 0.07867 C -0.053 0.06533 -0.03 0.032 -0.016 0 C -0.001 -0.03333 0.009 -0.07733 0.009 -0.10533 C 0.009 -0.148 0.002 -0.18133 -0.008 -0.18133 C -0.017 -0.18133 -0.025 -0.148 -0.025 -0.10533 C -0.025 -0.07733 -0.014 -0.03333 0 0 Z">
                                      <p:cBhvr>
                                        <p:cTn id="525" dur="2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6" nodeType="withEffect" fill="hold" presetClass="path" presetID="3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C 0.015 0.032 0.037 0.06533 0.055 0.07867 C 0.082 0.1 0.108 0.108 0.113 0.09733 C 0.117 0.08667 0.099 0.06 0.072 0.03867 C 0.054 0.02533 0.021 0.016 -0.008 0.01467 C -0.036 0.016 -0.07 0.02533 -0.088 0.03867 C -0.115 0.06 -0.133 0.08667 -0.128 0.09733 C -0.123 0.108 -0.097 0.1 -0.071 0.07867 C -0.053 0.06533 -0.03 0.032 -0.016 0 C -0.001 -0.03333 0.009 -0.07733 0.009 -0.10533 C 0.009 -0.148 0.002 -0.18133 -0.008 -0.18133 C -0.017 -0.18133 -0.025 -0.148 -0.025 -0.10533 C -0.025 -0.07733 -0.014 -0.03333 0 0 Z">
                                      <p:cBhvr>
                                        <p:cTn id="527" dur="2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8" nodeType="withEffect" fill="hold" presetClass="path" presetID="3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C 0.015 0.032 0.037 0.06533 0.055 0.07867 C 0.082 0.1 0.108 0.108 0.113 0.09733 C 0.117 0.08667 0.099 0.06 0.072 0.03867 C 0.054 0.02533 0.021 0.016 -0.008 0.01467 C -0.036 0.016 -0.07 0.02533 -0.088 0.03867 C -0.115 0.06 -0.133 0.08667 -0.128 0.09733 C -0.123 0.108 -0.097 0.1 -0.071 0.07867 C -0.053 0.06533 -0.03 0.032 -0.016 0 C -0.001 -0.03333 0.009 -0.07733 0.009 -0.10533 C 0.009 -0.148 0.002 -0.18133 -0.008 -0.18133 C -0.017 -0.18133 -0.025 -0.148 -0.025 -0.10533 C -0.025 -0.07733 -0.014 -0.03333 0 0 Z">
                                      <p:cBhvr>
                                        <p:cTn id="529" dur="2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152720"/>
                            </p:stCondLst>
                            <p:childTnLst>
                              <p:par>
                                <p:cTn id="531" nodeType="afterEffect" fill="hold" presetClass="path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L 0.017 -0.08667 C 0.034 -0.15733 0.061 -0.18533 0.1 -0.18533 C 0.12 -0.18533 0.138 -0.17467 0.152 -0.15733 C 0.162 -0.14533 0.174 -0.13867 0.187 -0.13867 C 0.212 -0.13867 0.233 -0.16267 0.241 -0.19733 L 0.25 -0.23867 L 0.232 -0.15067 C 0.215 -0.08133 0.188 -0.05333 0.15 -0.05333 C 0.13 -0.05333 0.111 -0.064 0.096 -0.08267 C 0.087 -0.09333 0.075 -0.1 0.063 -0.1 C 0.038 -0.1 0.017 -0.076 0.009 -0.04133 L 0 0 Z">
                                      <p:cBhvr>
                                        <p:cTn id="532" dur="2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3" nodeType="withEffect" fill="hold" presetClass="path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L 0.017 -0.08667 C 0.034 -0.15733 0.061 -0.18533 0.1 -0.18533 C 0.12 -0.18533 0.138 -0.17467 0.152 -0.15733 C 0.162 -0.14533 0.174 -0.13867 0.187 -0.13867 C 0.212 -0.13867 0.233 -0.16267 0.241 -0.19733 L 0.25 -0.23867 L 0.232 -0.15067 C 0.215 -0.08133 0.188 -0.05333 0.15 -0.05333 C 0.13 -0.05333 0.111 -0.064 0.096 -0.08267 C 0.087 -0.09333 0.075 -0.1 0.063 -0.1 C 0.038 -0.1 0.017 -0.076 0.009 -0.04133 L 0 0 Z">
                                      <p:cBhvr>
                                        <p:cTn id="534" dur="2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5" nodeType="withEffect" fill="hold" presetClass="path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L 0.017 -0.08667 C 0.034 -0.15733 0.061 -0.18533 0.1 -0.18533 C 0.12 -0.18533 0.138 -0.17467 0.152 -0.15733 C 0.162 -0.14533 0.174 -0.13867 0.187 -0.13867 C 0.212 -0.13867 0.233 -0.16267 0.241 -0.19733 L 0.25 -0.23867 L 0.232 -0.15067 C 0.215 -0.08133 0.188 -0.05333 0.15 -0.05333 C 0.13 -0.05333 0.111 -0.064 0.096 -0.08267 C 0.087 -0.09333 0.075 -0.1 0.063 -0.1 C 0.038 -0.1 0.017 -0.076 0.009 -0.04133 L 0 0 Z">
                                      <p:cBhvr>
                                        <p:cTn id="536" dur="2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154720"/>
                            </p:stCondLst>
                            <p:childTnLst>
                              <p:par>
                                <p:cTn id="538" nodeType="afterEffect" fill="hold" presetClass="path" presetID="2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C 0.023 0.00133 0.042 0.012 0.052 0.028 L 0.075 0.06533 C 0.08 0.07333 0.088 0.07733 0.098 0.07733 C 0.112 0.07733 0.124 0.06667 0.125 0.05067 C 0.124 0.03733 0.112 0.02533 0.098 0.02533 C 0.088 0.02533 0.08 0.03067 0.075 0.03733 L 0.052 0.07467 C 0.042 0.09067 0.023 0.10133 0 0.10267 C -0.023 0.10133 -0.042 0.09067 -0.052 0.07467 L -0.075 0.03733 C -0.08 0.03067 -0.088 0.02533 -0.098 0.02533 C -0.112 0.02533 -0.124 0.03733 -0.125 0.05067 C -0.124 0.06667 -0.112 0.07733 -0.098 0.07733 C -0.088 0.07733 -0.08 0.07333 -0.075 0.06533 L -0.052 0.028 C -0.042 0.012 -0.023 0.00133 0 0 Z">
                                      <p:cBhvr>
                                        <p:cTn id="539" dur="2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0" nodeType="withEffect" fill="hold" presetClass="path" presetID="2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C 0.023 0.00133 0.042 0.012 0.052 0.028 L 0.075 0.06533 C 0.08 0.07333 0.088 0.07733 0.098 0.07733 C 0.112 0.07733 0.124 0.06667 0.125 0.05067 C 0.124 0.03733 0.112 0.02533 0.098 0.02533 C 0.088 0.02533 0.08 0.03067 0.075 0.03733 L 0.052 0.07467 C 0.042 0.09067 0.023 0.10133 0 0.10267 C -0.023 0.10133 -0.042 0.09067 -0.052 0.07467 L -0.075 0.03733 C -0.08 0.03067 -0.088 0.02533 -0.098 0.02533 C -0.112 0.02533 -0.124 0.03733 -0.125 0.05067 C -0.124 0.06667 -0.112 0.07733 -0.098 0.07733 C -0.088 0.07733 -0.08 0.07333 -0.075 0.06533 L -0.052 0.028 C -0.042 0.012 -0.023 0.00133 0 0 Z">
                                      <p:cBhvr>
                                        <p:cTn id="541" dur="2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2" nodeType="withEffect" fill="hold" presetClass="path" presetID="2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C 0.023 0.00133 0.042 0.012 0.052 0.028 L 0.075 0.06533 C 0.08 0.07333 0.088 0.07733 0.098 0.07733 C 0.112 0.07733 0.124 0.06667 0.125 0.05067 C 0.124 0.03733 0.112 0.02533 0.098 0.02533 C 0.088 0.02533 0.08 0.03067 0.075 0.03733 L 0.052 0.07467 C 0.042 0.09067 0.023 0.10133 0 0.10267 C -0.023 0.10133 -0.042 0.09067 -0.052 0.07467 L -0.075 0.03733 C -0.08 0.03067 -0.088 0.02533 -0.098 0.02533 C -0.112 0.02533 -0.124 0.03733 -0.125 0.05067 C -0.124 0.06667 -0.112 0.07733 -0.098 0.07733 C -0.088 0.07733 -0.08 0.07333 -0.075 0.06533 L -0.052 0.028 C -0.042 0.012 -0.023 0.00133 0 0 Z">
                                      <p:cBhvr>
                                        <p:cTn id="543" dur="2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4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545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8" dur="119944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AutoShape 6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3379680" y="3224160"/>
                <a:ext cx="2335320" cy="7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2"/>
          <p:cNvSpPr/>
          <p:nvPr/>
        </p:nvSpPr>
        <p:spPr>
          <a:xfrm>
            <a:off x="1447920" y="312408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 Box 4"/>
          <p:cNvSpPr/>
          <p:nvPr/>
        </p:nvSpPr>
        <p:spPr>
          <a:xfrm>
            <a:off x="0" y="2514600"/>
            <a:ext cx="9677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Rectangle 6"/>
          <p:cNvSpPr/>
          <p:nvPr/>
        </p:nvSpPr>
        <p:spPr>
          <a:xfrm>
            <a:off x="3663360" y="1751760"/>
            <a:ext cx="181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Simplif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282600" y="2867040"/>
                <a:ext cx="825984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y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y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2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Text Box 5"/>
          <p:cNvSpPr/>
          <p:nvPr/>
        </p:nvSpPr>
        <p:spPr>
          <a:xfrm>
            <a:off x="4683240" y="2463840"/>
            <a:ext cx="18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AutoShape 6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2459160" y="2700360"/>
                <a:ext cx="4448160" cy="94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2"/>
          <p:cNvSpPr/>
          <p:nvPr/>
        </p:nvSpPr>
        <p:spPr>
          <a:xfrm>
            <a:off x="1447920" y="25909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2057400" y="1600200"/>
            <a:ext cx="5418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-2033640" y="2133720"/>
            <a:ext cx="1349712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833560" y="847800"/>
                <a:ext cx="3102120" cy="15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  <m:e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2057400" y="3232080"/>
                <a:ext cx="456264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 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+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2"/>
          <p:cNvSpPr/>
          <p:nvPr/>
        </p:nvSpPr>
        <p:spPr>
          <a:xfrm>
            <a:off x="-566640" y="301608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AutoShape 6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2924280" y="2647800"/>
                <a:ext cx="3058920" cy="7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Text Box 4"/>
          <p:cNvSpPr/>
          <p:nvPr/>
        </p:nvSpPr>
        <p:spPr>
          <a:xfrm>
            <a:off x="762120" y="2362320"/>
            <a:ext cx="78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Text Box 5"/>
          <p:cNvSpPr/>
          <p:nvPr/>
        </p:nvSpPr>
        <p:spPr>
          <a:xfrm>
            <a:off x="914400" y="2971800"/>
            <a:ext cx="184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2833560" y="847800"/>
                <a:ext cx="3102120" cy="15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  <m:e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2028960" y="3232080"/>
                <a:ext cx="462096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 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−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Text Box 5"/>
          <p:cNvSpPr/>
          <p:nvPr/>
        </p:nvSpPr>
        <p:spPr>
          <a:xfrm>
            <a:off x="4510080" y="83808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AutoShape 6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2752560" y="2374920"/>
                <a:ext cx="351324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2833560" y="847800"/>
                <a:ext cx="3102120" cy="15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  <m:e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2028960" y="3232080"/>
                <a:ext cx="462096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 </m:t>
                    </m:r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AutoShape 6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2951280" y="2374920"/>
                <a:ext cx="311616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2195640" y="801720"/>
                <a:ext cx="4379760" cy="15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  <m:e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2057400" y="3232080"/>
                <a:ext cx="456264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 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+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4937040" y="2863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1122480" y="3321000"/>
                <a:ext cx="6802200" cy="97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2,3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(</m:t>
                        </m:r>
                        <m:r>
                          <m:t xml:space="preserve">5,1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(</m:t>
                        </m:r>
                        <m:r>
                          <m:t xml:space="preserve">4,1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(</m:t>
                        </m:r>
                        <m:r>
                          <m:t xml:space="preserve">3,3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4" name="TextBox 6"/>
          <p:cNvSpPr/>
          <p:nvPr/>
        </p:nvSpPr>
        <p:spPr>
          <a:xfrm>
            <a:off x="1154160" y="1946160"/>
            <a:ext cx="7566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Is it a function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AutoShape 6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262080" y="2708280"/>
                <a:ext cx="8662680" cy="92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+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8"/>
          <p:cNvSpPr/>
          <p:nvPr/>
        </p:nvSpPr>
        <p:spPr>
          <a:xfrm>
            <a:off x="4479840" y="-6048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Rectangle 9"/>
          <p:cNvSpPr/>
          <p:nvPr/>
        </p:nvSpPr>
        <p:spPr>
          <a:xfrm>
            <a:off x="6480" y="2075400"/>
            <a:ext cx="25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Rectangle 10"/>
          <p:cNvSpPr/>
          <p:nvPr/>
        </p:nvSpPr>
        <p:spPr>
          <a:xfrm>
            <a:off x="6480" y="3846960"/>
            <a:ext cx="25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Rectangle 11"/>
          <p:cNvSpPr/>
          <p:nvPr/>
        </p:nvSpPr>
        <p:spPr>
          <a:xfrm>
            <a:off x="6480" y="5618520"/>
            <a:ext cx="25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Rectangle 12"/>
          <p:cNvSpPr/>
          <p:nvPr/>
        </p:nvSpPr>
        <p:spPr>
          <a:xfrm>
            <a:off x="6480" y="7390440"/>
            <a:ext cx="25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2195640" y="801720"/>
                <a:ext cx="4379760" cy="15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  <m:e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2028960" y="3232080"/>
                <a:ext cx="462096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nd  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−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AutoShape 3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Rectangle 12"/>
          <p:cNvSpPr/>
          <p:nvPr/>
        </p:nvSpPr>
        <p:spPr>
          <a:xfrm>
            <a:off x="4479840" y="-6048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13"/>
          <p:cNvSpPr/>
          <p:nvPr/>
        </p:nvSpPr>
        <p:spPr>
          <a:xfrm>
            <a:off x="6480" y="2075400"/>
            <a:ext cx="25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Rectangle 14"/>
          <p:cNvSpPr/>
          <p:nvPr/>
        </p:nvSpPr>
        <p:spPr>
          <a:xfrm>
            <a:off x="6480" y="3846960"/>
            <a:ext cx="25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Rectangle 15"/>
          <p:cNvSpPr/>
          <p:nvPr/>
        </p:nvSpPr>
        <p:spPr>
          <a:xfrm>
            <a:off x="6480" y="5618520"/>
            <a:ext cx="25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Rectangle 16"/>
          <p:cNvSpPr/>
          <p:nvPr/>
        </p:nvSpPr>
        <p:spPr>
          <a:xfrm>
            <a:off x="6480" y="7390440"/>
            <a:ext cx="25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2"/>
          <p:cNvSpPr/>
          <p:nvPr/>
        </p:nvSpPr>
        <p:spPr>
          <a:xfrm>
            <a:off x="5867280" y="2666880"/>
            <a:ext cx="762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Text Box 2"/>
          <p:cNvSpPr/>
          <p:nvPr/>
        </p:nvSpPr>
        <p:spPr>
          <a:xfrm>
            <a:off x="3505320" y="2881440"/>
            <a:ext cx="2895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955800" y="2712960"/>
                <a:ext cx="704664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−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"/>
          <p:cNvSpPr/>
          <p:nvPr/>
        </p:nvSpPr>
        <p:spPr>
          <a:xfrm>
            <a:off x="914400" y="1981080"/>
            <a:ext cx="7543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622440" y="2300400"/>
            <a:ext cx="7759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ese are the two tests used to determine whether something is a fun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2"/>
          <p:cNvSpPr/>
          <p:nvPr/>
        </p:nvSpPr>
        <p:spPr>
          <a:xfrm>
            <a:off x="4635360" y="251460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AutoShape 3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838080" y="167652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Rectangle 6"/>
          <p:cNvSpPr/>
          <p:nvPr/>
        </p:nvSpPr>
        <p:spPr>
          <a:xfrm>
            <a:off x="579600" y="2941560"/>
            <a:ext cx="8030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Rectangle 9"/>
          <p:cNvSpPr/>
          <p:nvPr/>
        </p:nvSpPr>
        <p:spPr>
          <a:xfrm>
            <a:off x="1815120" y="2452680"/>
            <a:ext cx="5158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Mapping Diagram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Vertical Line Tes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2"/>
          <p:cNvSpPr/>
          <p:nvPr/>
        </p:nvSpPr>
        <p:spPr>
          <a:xfrm>
            <a:off x="1676520" y="2133720"/>
            <a:ext cx="60958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If you see this in the vertical line test, you know the relation is NOT a fun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 Box 3"/>
          <p:cNvSpPr/>
          <p:nvPr/>
        </p:nvSpPr>
        <p:spPr>
          <a:xfrm>
            <a:off x="1447920" y="2057400"/>
            <a:ext cx="673236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alibri"/>
              </a:rPr>
              <a:t>A vertical line hits 2 or more points on the graph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AutoShape 5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2"/>
          <p:cNvSpPr/>
          <p:nvPr/>
        </p:nvSpPr>
        <p:spPr>
          <a:xfrm>
            <a:off x="380880" y="1523880"/>
            <a:ext cx="8477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Give the domain and range of the rela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330120" y="3200400"/>
          <a:ext cx="8585280" cy="93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0120" y="3200400"/>
                    <a:ext cx="8585280" cy="93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1549440" y="2120760"/>
          <a:ext cx="5970600" cy="272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9440" y="2120760"/>
                    <a:ext cx="5970600" cy="272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2"/>
          <p:cNvSpPr/>
          <p:nvPr/>
        </p:nvSpPr>
        <p:spPr>
          <a:xfrm>
            <a:off x="1523880" y="1828800"/>
            <a:ext cx="64008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This is what you look for in a mapping diagram to determine whether or not something is a function. 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4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AutoShape 5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4753080" y="2556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1746720" y="2111400"/>
            <a:ext cx="5921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Yes!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(Each x has only one y)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AutoShape 8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AutoShape 2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Text Box 3"/>
          <p:cNvSpPr/>
          <p:nvPr/>
        </p:nvSpPr>
        <p:spPr>
          <a:xfrm>
            <a:off x="754920" y="1295280"/>
            <a:ext cx="829296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*Arrows coming from the DOMAIN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 arrows from one number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t a fun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 arrow from each number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n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Line 4"/>
          <p:cNvSpPr/>
          <p:nvPr/>
        </p:nvSpPr>
        <p:spPr>
          <a:xfrm>
            <a:off x="2209680" y="30481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Line 5"/>
          <p:cNvSpPr/>
          <p:nvPr/>
        </p:nvSpPr>
        <p:spPr>
          <a:xfrm>
            <a:off x="2362320" y="44197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2"/>
          <p:cNvSpPr/>
          <p:nvPr/>
        </p:nvSpPr>
        <p:spPr>
          <a:xfrm>
            <a:off x="832320" y="2590920"/>
            <a:ext cx="7550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Give the definition of a function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AutoShape 2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Text Box 3"/>
          <p:cNvSpPr/>
          <p:nvPr/>
        </p:nvSpPr>
        <p:spPr>
          <a:xfrm>
            <a:off x="1295280" y="2057400"/>
            <a:ext cx="73152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A relation where each element in the domain is paired with exactly one element in the range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 Box 2"/>
          <p:cNvSpPr/>
          <p:nvPr/>
        </p:nvSpPr>
        <p:spPr>
          <a:xfrm>
            <a:off x="1295280" y="1523880"/>
            <a:ext cx="6629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1271520" y="2438280"/>
            <a:ext cx="6958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If you’re told to find f(5), what do you do with the number 5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AutoShape 2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Text Box 3"/>
          <p:cNvSpPr/>
          <p:nvPr/>
        </p:nvSpPr>
        <p:spPr>
          <a:xfrm>
            <a:off x="609480" y="2514600"/>
            <a:ext cx="8001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place all the x’s in the function with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ext Box 2"/>
          <p:cNvSpPr/>
          <p:nvPr/>
        </p:nvSpPr>
        <p:spPr>
          <a:xfrm>
            <a:off x="533520" y="2438280"/>
            <a:ext cx="7924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Rectangle 4"/>
          <p:cNvSpPr/>
          <p:nvPr/>
        </p:nvSpPr>
        <p:spPr>
          <a:xfrm>
            <a:off x="-685800" y="2057400"/>
            <a:ext cx="102013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Give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ind f(-4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74" name=""/>
          <p:cNvGraphicFramePr/>
          <p:nvPr/>
        </p:nvGraphicFramePr>
        <p:xfrm>
          <a:off x="1625760" y="2743200"/>
          <a:ext cx="5613120" cy="124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25760" y="2743200"/>
                    <a:ext cx="5613120" cy="12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AutoShape 2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Rectangle 3"/>
          <p:cNvSpPr/>
          <p:nvPr/>
        </p:nvSpPr>
        <p:spPr>
          <a:xfrm>
            <a:off x="3804480" y="3138840"/>
            <a:ext cx="976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7200" spc="-1" strike="noStrike">
                <a:solidFill>
                  <a:srgbClr val="000000"/>
                </a:solidFill>
                <a:latin typeface="Calibri"/>
              </a:rPr>
              <a:t>-8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Text Box 2"/>
          <p:cNvSpPr/>
          <p:nvPr/>
        </p:nvSpPr>
        <p:spPr>
          <a:xfrm>
            <a:off x="914400" y="1295280"/>
            <a:ext cx="7480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Given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find f(2c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1600200" y="2666880"/>
          <a:ext cx="5943600" cy="11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666880"/>
                    <a:ext cx="5943600" cy="11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AutoShape 2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82" name=""/>
          <p:cNvGraphicFramePr/>
          <p:nvPr/>
        </p:nvGraphicFramePr>
        <p:xfrm>
          <a:off x="1676520" y="2590920"/>
          <a:ext cx="579096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590920"/>
                    <a:ext cx="579096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 Box 2"/>
          <p:cNvSpPr/>
          <p:nvPr/>
        </p:nvSpPr>
        <p:spPr>
          <a:xfrm>
            <a:off x="1371600" y="1752480"/>
            <a:ext cx="69343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Given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Find p(3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Rectangle 4"/>
          <p:cNvSpPr/>
          <p:nvPr/>
        </p:nvSpPr>
        <p:spPr>
          <a:xfrm>
            <a:off x="8467560" y="580716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1893960" y="3048120"/>
                <a:ext cx="565128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1905120" y="3124080"/>
            <a:ext cx="5410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1036800" y="3170160"/>
                <a:ext cx="6975360" cy="98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,2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(</m:t>
                        </m:r>
                        <m:r>
                          <m:t xml:space="preserve">3,7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(</m:t>
                        </m:r>
                        <m:r>
                          <m:t xml:space="preserve">2,5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(</m:t>
                        </m:r>
                        <m:r>
                          <m:t xml:space="preserve">3,6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5" name="TextBox 7"/>
          <p:cNvSpPr/>
          <p:nvPr/>
        </p:nvSpPr>
        <p:spPr>
          <a:xfrm>
            <a:off x="1154160" y="1946160"/>
            <a:ext cx="7566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Is it a function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AutoShape 2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962520" y="2608200"/>
            <a:ext cx="299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25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 Box 2"/>
          <p:cNvSpPr/>
          <p:nvPr/>
        </p:nvSpPr>
        <p:spPr>
          <a:xfrm>
            <a:off x="1295280" y="990720"/>
            <a:ext cx="6782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  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Rectangle 3"/>
          <p:cNvSpPr/>
          <p:nvPr/>
        </p:nvSpPr>
        <p:spPr>
          <a:xfrm>
            <a:off x="2806560" y="266760"/>
            <a:ext cx="328932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"/>
              </a:rPr>
              <a:t>Given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"/>
              </a:rPr>
              <a:t>Find 3p(2)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1893960" y="3048120"/>
                <a:ext cx="565128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AutoShape 2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Text Box 3"/>
          <p:cNvSpPr/>
          <p:nvPr/>
        </p:nvSpPr>
        <p:spPr>
          <a:xfrm>
            <a:off x="3538440" y="2405160"/>
            <a:ext cx="2811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alibri"/>
              </a:rPr>
              <a:t>51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1447920" y="2054160"/>
            <a:ext cx="6553080" cy="22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No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The 3 in the domain has two different range values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4265640" y="34830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AutoShape 7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4176720" y="332100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5" descr="sidequad.gif"/>
          <p:cNvPicPr/>
          <p:nvPr/>
        </p:nvPicPr>
        <p:blipFill>
          <a:blip r:embed="rId1"/>
          <a:stretch/>
        </p:blipFill>
        <p:spPr>
          <a:xfrm>
            <a:off x="2540160" y="2065320"/>
            <a:ext cx="4284360" cy="4284720"/>
          </a:xfrm>
          <a:prstGeom prst="rect">
            <a:avLst/>
          </a:prstGeom>
          <a:ln w="0">
            <a:noFill/>
          </a:ln>
        </p:spPr>
      </p:pic>
      <p:sp>
        <p:nvSpPr>
          <p:cNvPr id="105" name="TextBox 6"/>
          <p:cNvSpPr/>
          <p:nvPr/>
        </p:nvSpPr>
        <p:spPr>
          <a:xfrm>
            <a:off x="939960" y="819000"/>
            <a:ext cx="7565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Is it a function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1150920" y="1878120"/>
            <a:ext cx="67737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No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(It does not pass the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vertical line test)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AutoShape 6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477720" y="2362320"/>
            <a:ext cx="71424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2286000" y="2408400"/>
            <a:ext cx="4572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7" descr="iYzIyYzYwODU4YmJjZTY5ZTUwMTExODdmOTExYmI.gif"/>
          <p:cNvPicPr/>
          <p:nvPr/>
        </p:nvPicPr>
        <p:blipFill>
          <a:blip r:embed="rId1"/>
          <a:stretch/>
        </p:blipFill>
        <p:spPr>
          <a:xfrm>
            <a:off x="2057400" y="2097000"/>
            <a:ext cx="5305320" cy="4075200"/>
          </a:xfrm>
          <a:prstGeom prst="rect">
            <a:avLst/>
          </a:prstGeom>
          <a:ln w="0">
            <a:noFill/>
          </a:ln>
        </p:spPr>
      </p:pic>
      <p:sp>
        <p:nvSpPr>
          <p:cNvPr id="116" name="TextBox 8"/>
          <p:cNvSpPr/>
          <p:nvPr/>
        </p:nvSpPr>
        <p:spPr>
          <a:xfrm>
            <a:off x="1154160" y="830160"/>
            <a:ext cx="7566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Is it a function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7T01:41:53Z</dcterms:created>
  <dc:creator>Lauren Williams</dc:creator>
  <dc:description/>
  <dc:language>en-US</dc:language>
  <cp:lastModifiedBy>Lauren Williams</cp:lastModifiedBy>
  <dcterms:modified xsi:type="dcterms:W3CDTF">2011-02-17T03:01:13Z</dcterms:modified>
  <cp:revision>34</cp:revision>
  <dc:subject/>
  <dc:title>Slide 1</dc:title>
</cp:coreProperties>
</file>